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95A-6113-4785-AAA3-462D25B5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9FF-51F6-4CD1-91F1-FC9BF161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68F-E563-4A44-A73E-0C3C221F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AD2-0DAA-4384-A6E0-4D843907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19F5-22B1-4FD4-AD3C-EDBB0811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0DB4-9132-4FAA-B1AA-29E0A4B4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A785-725E-4B09-B277-763EEA54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24D4-1DCF-427A-B0BA-0249D050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BDE5-3605-4190-8801-A5EF662F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0C66-080C-44A5-9EBD-F8DEA2A5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BD6F-D4B1-4CBB-8F59-7AEAFF86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A77-52AE-441C-A784-C8C4329A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7916-8942-4FF6-9906-5E826D57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0CA6-DF8D-4302-BEE5-9F988A66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CA0-8667-4B2E-A555-F988FF40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CA05-D1AA-4F90-B1AF-D5C6CC20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8903-42B2-41A1-985E-B29067E3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553-AB1E-4CB2-B8F8-0DF4E66A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EB7-8E1B-4C34-A972-3BCF9293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509-48BC-4B5C-9720-BAF23CF2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CFD-6A06-4AB2-91D5-FD3595C2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7F1-013B-4834-9F05-BA26BAB0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805-A4BB-4323-A07F-1A1FF8A3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389-7487-4938-B33D-40A7410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B505-F149-4EF9-AAE3-AEE521713E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9AD8-9D95-48AD-BEDE-34EF21A037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420000"/>
                </a:solidFill>
                <a:uFillTx/>
                <a:latin typeface="Arial"/>
              </a:rPr>
              <a:t>Chrysler Building</a:t>
            </a:r>
            <a:endParaRPr b="0" lang="en-US" sz="5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53337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5 Lexington A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 City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33520" y="37339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 De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senis Hadjiagapi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lan Ph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hley 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Structural Stability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6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backs at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nks of 8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osta ste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862 wind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,000 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,000 riv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pic>
        <p:nvPicPr>
          <p:cNvPr id="144" name="Picture 3" descr="skyscraper-diagram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Lateral Loads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657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s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ff inner c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ors act as shear 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d with steel tru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onal beams add additional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structure"/>
          <p:cNvPicPr/>
          <p:nvPr/>
        </p:nvPicPr>
        <p:blipFill>
          <a:blip r:embed="rId1"/>
          <a:stretch/>
        </p:blipFill>
        <p:spPr>
          <a:xfrm>
            <a:off x="4114800" y="2209680"/>
            <a:ext cx="46004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Basics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ed by                  Fred T. Ley &amp;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uilding to surpass 100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,961 tons of structural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1,881 riv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826,000 b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onstruction Time Line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33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began 9/19/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: steel, br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floors built p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5 ft spire built in the elevator s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completed 5/28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26creator1_lg"/>
          <p:cNvPicPr/>
          <p:nvPr/>
        </p:nvPicPr>
        <p:blipFill>
          <a:blip r:embed="rId1"/>
          <a:stretch/>
        </p:blipFill>
        <p:spPr>
          <a:xfrm>
            <a:off x="4267080" y="1981080"/>
            <a:ext cx="4667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Safety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000 construction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safety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fat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for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new pho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Since Then: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lighting scheme installed in 19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ovated in 1978-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ation complete in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est standing brick building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chrysler-building"/>
          <p:cNvPicPr/>
          <p:nvPr/>
        </p:nvPicPr>
        <p:blipFill>
          <a:blip r:embed="rId1"/>
          <a:srcRect l="0" t="0" r="32532" b="0"/>
          <a:stretch/>
        </p:blipFill>
        <p:spPr>
          <a:xfrm>
            <a:off x="4876920" y="1905120"/>
            <a:ext cx="36957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0000"/>
                </a:solidFill>
                <a:latin typeface="Arial"/>
              </a:rPr>
              <a:t>Mechanical, Electrical, and Plumbing Systems</a:t>
            </a:r>
            <a:endParaRPr b="0" lang="en-US" sz="3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Full-length Elev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miles of pi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0 miles of electrical w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Elevator System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pic>
        <p:nvPicPr>
          <p:cNvPr id="161" name="Content Placeholder 3" descr="texaco.jpg"/>
          <p:cNvPicPr/>
          <p:nvPr/>
        </p:nvPicPr>
        <p:blipFill>
          <a:blip r:embed="rId1"/>
          <a:stretch/>
        </p:blipFill>
        <p:spPr>
          <a:xfrm>
            <a:off x="4952880" y="1905120"/>
            <a:ext cx="3353040" cy="4865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3520" y="1905120"/>
            <a:ext cx="4419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Otis Elevator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est elevator system in the world at time of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capable of rates up to 1200 ft/min, (20ft/sec) deemed unsafe speed by city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Temperature Control System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82880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with Carrier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first buildings to include air conditio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d Weather” system revolutionary for it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ontent Placeholder 4" descr="haircut.jpg"/>
          <p:cNvPicPr/>
          <p:nvPr/>
        </p:nvPicPr>
        <p:blipFill>
          <a:blip r:embed="rId1"/>
          <a:stretch/>
        </p:blipFill>
        <p:spPr>
          <a:xfrm>
            <a:off x="5562720" y="1828800"/>
            <a:ext cx="28954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William H. Reynolds &amp; architect William Van Alen, in 19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s Tallest Building     (‘30-‘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ynolds sold lease and design plans to Walter P. Chrys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d competition from the Bank of Manhattan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30988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Arial"/>
              </a:rPr>
              <a:t>Television and Radio Broadcasting</a:t>
            </a:r>
            <a:endParaRPr b="0" lang="en-US" sz="38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28800"/>
            <a:ext cx="46483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most floors too slanted to be useful for offices; used to house mechanical and broadcas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r broadcasting home of WCBS-TV and several radio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Content Placeholder 4" descr="chrysler.jpg"/>
          <p:cNvPicPr/>
          <p:nvPr/>
        </p:nvPicPr>
        <p:blipFill>
          <a:blip r:embed="rId1"/>
          <a:stretch/>
        </p:blipFill>
        <p:spPr>
          <a:xfrm>
            <a:off x="5245200" y="1828800"/>
            <a:ext cx="28447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Development 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876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designed to be 808 ft tall, revised to 925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of Manhattan Tower designed and built to a height of 927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Alen constructed the 185 ft sp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$15 million                     ($17 billion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7"/>
          <a:stretch/>
        </p:blipFill>
        <p:spPr>
          <a:xfrm>
            <a:off x="5715000" y="1905120"/>
            <a:ext cx="30621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Owners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ter P. Chrysler, Chairman of the Chrysler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 Goldman and Alex Di Lore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. Mutual Life Insuranc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 Kent Cooke, a Washington D.C.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hman Speyer Properties (25%) and TMW Real Estate Group (7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1892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urrent Use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14800" y="1904760"/>
            <a:ext cx="46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s occupied by variou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ortment of retail stores/amenities are located throughout th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by is open to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deck (clo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 Club (closed in 19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43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Architecture 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257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yle: Art Deco (Exposition Internationale des Arts Décoratifs et Industriels Moder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: White brick and metal faç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osta D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 of Industrial and Chrysle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225571"/>
          <p:cNvPicPr/>
          <p:nvPr/>
        </p:nvPicPr>
        <p:blipFill>
          <a:blip r:embed="rId1"/>
          <a:stretch/>
        </p:blipFill>
        <p:spPr>
          <a:xfrm>
            <a:off x="5943600" y="685800"/>
            <a:ext cx="27986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23485261"/>
          <p:cNvPicPr/>
          <p:nvPr/>
        </p:nvPicPr>
        <p:blipFill>
          <a:blip r:embed="rId1"/>
          <a:stretch/>
        </p:blipFill>
        <p:spPr>
          <a:xfrm>
            <a:off x="5181480" y="1143000"/>
            <a:ext cx="3729240" cy="5486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Exterior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Granite Ent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or Ea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ca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d Orn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hrysler-building-eagle"/>
          <p:cNvPicPr/>
          <p:nvPr/>
        </p:nvPicPr>
        <p:blipFill>
          <a:blip r:embed="rId2"/>
          <a:stretch/>
        </p:blipFill>
        <p:spPr>
          <a:xfrm>
            <a:off x="3962520" y="2816280"/>
            <a:ext cx="4952880" cy="3754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hryswhe"/>
          <p:cNvPicPr/>
          <p:nvPr/>
        </p:nvPicPr>
        <p:blipFill>
          <a:blip r:embed="rId3"/>
          <a:stretch/>
        </p:blipFill>
        <p:spPr>
          <a:xfrm>
            <a:off x="4038480" y="28954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Interior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gant Lob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tiful Mu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ly Reno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newyorkcity226"/>
          <p:cNvPicPr/>
          <p:nvPr/>
        </p:nvPicPr>
        <p:blipFill>
          <a:blip r:embed="rId1"/>
          <a:stretch/>
        </p:blipFill>
        <p:spPr>
          <a:xfrm>
            <a:off x="4038480" y="2876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newyorkcity224"/>
          <p:cNvPicPr/>
          <p:nvPr/>
        </p:nvPicPr>
        <p:blipFill>
          <a:blip r:embed="rId2"/>
          <a:stretch/>
        </p:blipFill>
        <p:spPr>
          <a:xfrm>
            <a:off x="3886200" y="2895480"/>
            <a:ext cx="5029200" cy="362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newyorkcity232"/>
          <p:cNvPicPr/>
          <p:nvPr/>
        </p:nvPicPr>
        <p:blipFill>
          <a:blip r:embed="rId3"/>
          <a:stretch/>
        </p:blipFill>
        <p:spPr>
          <a:xfrm>
            <a:off x="3886200" y="2889360"/>
            <a:ext cx="5029200" cy="363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newyorkcity234"/>
          <p:cNvPicPr/>
          <p:nvPr/>
        </p:nvPicPr>
        <p:blipFill>
          <a:blip r:embed="rId4"/>
          <a:stretch/>
        </p:blipFill>
        <p:spPr>
          <a:xfrm>
            <a:off x="3809880" y="2975040"/>
            <a:ext cx="5105520" cy="355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mural"/>
          <p:cNvPicPr/>
          <p:nvPr/>
        </p:nvPicPr>
        <p:blipFill>
          <a:blip r:embed="rId5"/>
          <a:stretch/>
        </p:blipFill>
        <p:spPr>
          <a:xfrm>
            <a:off x="5176800" y="990720"/>
            <a:ext cx="3643200" cy="556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newyorkcity231"/>
          <p:cNvPicPr/>
          <p:nvPr/>
        </p:nvPicPr>
        <p:blipFill>
          <a:blip r:embed="rId6"/>
          <a:stretch/>
        </p:blipFill>
        <p:spPr>
          <a:xfrm>
            <a:off x="5334120" y="1523880"/>
            <a:ext cx="366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Former Amenities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MID021-07"/>
          <p:cNvPicPr/>
          <p:nvPr/>
        </p:nvPicPr>
        <p:blipFill>
          <a:blip r:embed="rId1"/>
          <a:stretch/>
        </p:blipFill>
        <p:spPr>
          <a:xfrm>
            <a:off x="5246640" y="2057400"/>
            <a:ext cx="3611520" cy="459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(JPEG)"/>
          <p:cNvPicPr/>
          <p:nvPr/>
        </p:nvPicPr>
        <p:blipFill>
          <a:blip r:embed="rId2"/>
          <a:stretch/>
        </p:blipFill>
        <p:spPr>
          <a:xfrm>
            <a:off x="228600" y="3505320"/>
            <a:ext cx="4648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0:23:11Z</dcterms:created>
  <dc:creator>Dylan Phelan </dc:creator>
  <dc:description/>
  <dc:language>en-US</dc:language>
  <cp:lastModifiedBy>Charles Kaczynski</cp:lastModifiedBy>
  <dcterms:modified xsi:type="dcterms:W3CDTF">2008-06-26T20:53:04Z</dcterms:modified>
  <cp:revision>9</cp:revision>
  <dc:subject/>
  <dc:title>ARCHITECTURE </dc:title>
</cp:coreProperties>
</file>